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6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43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6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5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46.jpeg" ContentType="image/jpeg"/>
  <Override PartName="/ppt/media/image50.png" ContentType="image/png"/>
  <Override PartName="/ppt/media/image51.png" ContentType="image/png"/>
  <Override PartName="/ppt/media/image52.png" ContentType="image/png"/>
  <Override PartName="/ppt/media/image48.jpeg" ContentType="image/jpeg"/>
  <Override PartName="/ppt/media/image53.png" ContentType="image/png"/>
  <Override PartName="/ppt/media/image13.png" ContentType="image/png"/>
  <Override PartName="/ppt/media/image54.jpeg" ContentType="image/jpeg"/>
  <Override PartName="/ppt/media/image56.png" ContentType="image/png"/>
  <Override PartName="/ppt/media/image37.jpeg" ContentType="image/jpeg"/>
  <Override PartName="/ppt/media/image30.png" ContentType="image/png"/>
  <Override PartName="/ppt/media/image8.png" ContentType="image/png"/>
  <Override PartName="/ppt/media/image11.png" ContentType="image/png"/>
  <Override PartName="/ppt/media/image6.wmf" ContentType="image/x-wmf"/>
  <Override PartName="/ppt/media/image42.jpeg" ContentType="image/jpeg"/>
  <Override PartName="/ppt/media/image1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dt" idx="5"/>
          </p:nvPr>
        </p:nvSpPr>
        <p:spPr>
          <a:xfrm>
            <a:off x="5180040" y="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Img"/>
          </p:nvPr>
        </p:nvSpPr>
        <p:spPr>
          <a:xfrm>
            <a:off x="2857680" y="-532080"/>
            <a:ext cx="3427200" cy="466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376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AC7FB8-BB49-4BAB-9CA7-4B4291846C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2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2ECDB9-4186-4C68-9101-4AFBF74FD8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3CAE08-2942-4A25-9813-AF18A2089B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EF63E1-EE28-4EBE-AED9-4F3DF1F473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EF8334-7A70-413B-B06B-B309266F9B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DC2D2F-5F75-4C87-A65E-E7B648E09D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61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BD46B8-E38E-4D04-B8E9-AE4231744F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5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255004-1BC2-4855-8DA6-F55358A516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8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FF1F30-DB1F-4D21-805E-0427E18E00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31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614EBA-5556-4E85-8241-0A5747E9E4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34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9C4658-3409-4B67-AB4F-3F8FBCB8D2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37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4FB0F8-EA63-45E4-9AD1-A97D9429C9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40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C130FD-AB0C-4998-9C4C-02112A2462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43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6B276F-69DE-45C9-A00A-ABA64106ED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46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55387E-76C5-465D-A358-B65F5C6C04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70424-4D31-4125-A5FC-FC2EB49071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FA82F-30D6-4262-BEFA-19A1A8B7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7A52-E7E4-4549-8234-053B77AD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BDD4-EFE0-4F0D-B816-88C55FAE16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50067-DC89-4E52-B9B7-C7B940BFB8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5839A-4B8D-4B92-B071-79D49C2B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0E0FC-D8B6-4F4F-B0A6-59875139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DA5B6-FF62-4B25-8725-7554013A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326B8-F8F8-4B01-B936-364369B3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01DD1-1A27-42B8-A3EA-BBB522DA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E8E15-03FA-4272-AA9F-CBB73F34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838F-7467-4573-84D3-5C78F6FA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48267-FA6F-492C-9AFB-81046175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5F738-D328-48E5-BFA8-006ECC21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9B175-9C4F-4DA8-9164-16738785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D9BF6-D741-4FC8-B805-A8671C74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9B245-B6B1-4DAA-A532-398C436B45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21F57-5BE5-4335-A76D-FED83A20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9147-7A5B-4235-995B-7FBF8504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BF756-F821-4417-946E-E89A85BD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1622-002F-4BC1-868D-E51FC1C9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E935-82C5-48A6-B952-A8EE8003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FE53-D1AF-4C5C-BEC1-36FD3A7D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893C8-9854-40EB-B3DE-852ADEB8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118D34-34F9-4EB5-87DA-C37413F9DF8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6B4C49-0AC9-4F4A-8E44-B294A94503DB}" type="slidenum"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32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png"/><Relationship Id="rId10" Type="http://schemas.openxmlformats.org/officeDocument/2006/relationships/image" Target="../media/image48.jpeg"/><Relationship Id="rId11" Type="http://schemas.openxmlformats.org/officeDocument/2006/relationships/image" Target="../media/image49.jpe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4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image" Target="../media/image54.jpeg"/><Relationship Id="rId8" Type="http://schemas.openxmlformats.org/officeDocument/2006/relationships/image" Target="../media/image54.jpeg"/><Relationship Id="rId9" Type="http://schemas.openxmlformats.org/officeDocument/2006/relationships/image" Target="../media/image54.jpe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28800" y="0"/>
            <a:ext cx="7758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927000" y="0"/>
            <a:ext cx="7790040" cy="6742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8643960" y="6572160"/>
            <a:ext cx="5000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571680" y="1143000"/>
            <a:ext cx="3857400" cy="2643120"/>
            <a:chOff x="571680" y="1143000"/>
            <a:chExt cx="3857400" cy="2643120"/>
          </a:xfrm>
        </p:grpSpPr>
        <p:pic>
          <p:nvPicPr>
            <p:cNvPr id="178" name="" descr=""/>
            <p:cNvPicPr/>
            <p:nvPr/>
          </p:nvPicPr>
          <p:blipFill>
            <a:blip r:embed="rId2">
              <a:lum contrast="10000"/>
            </a:blip>
            <a:stretch/>
          </p:blipFill>
          <p:spPr>
            <a:xfrm>
              <a:off x="571680" y="1143000"/>
              <a:ext cx="385740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71680" y="1143000"/>
              <a:ext cx="3857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714920" y="3857760"/>
            <a:ext cx="4143240" cy="2714400"/>
            <a:chOff x="4714920" y="3857760"/>
            <a:chExt cx="4143240" cy="271440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4714920" y="3857760"/>
              <a:ext cx="4143240" cy="27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714920" y="3857760"/>
              <a:ext cx="4143240" cy="27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572000" y="1214280"/>
            <a:ext cx="442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ы помним Вас, погибшие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мн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 белые бантики, и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вон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портзал, террорис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громкие сто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 так не начавшийся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760" y="4143240"/>
            <a:ext cx="421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ет горя страшней для отцов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тер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ак оплакивать своих сынов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 дочер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212840" y="-103320"/>
            <a:ext cx="707220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14680" y="-793800"/>
            <a:ext cx="58575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29080" y="1143000"/>
            <a:ext cx="4357800" cy="2786040"/>
            <a:chOff x="4429080" y="1143000"/>
            <a:chExt cx="4357800" cy="278604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429080" y="1143000"/>
              <a:ext cx="43578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429080" y="1143000"/>
              <a:ext cx="435780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00040" y="4286160"/>
            <a:ext cx="3500640" cy="2352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500720" y="4143240"/>
            <a:ext cx="442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То, что случилось с детьм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Беслане  - мы помн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Тот, кто сделал это - прокля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                                          </a:t>
            </a: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навсег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Тот, кто безразличен к этом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бесчеловече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Тот, кто помог им - наш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РУЗЬЯ</a:t>
            </a: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359000" y="-103320"/>
            <a:ext cx="6784920" cy="118296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500040" y="1071720"/>
            <a:ext cx="3643200" cy="3143160"/>
            <a:chOff x="500040" y="1071720"/>
            <a:chExt cx="3643200" cy="3143160"/>
          </a:xfrm>
        </p:grpSpPr>
        <p:pic>
          <p:nvPicPr>
            <p:cNvPr id="194" name="" descr=""/>
            <p:cNvPicPr/>
            <p:nvPr/>
          </p:nvPicPr>
          <p:blipFill>
            <a:blip r:embed="rId5"/>
            <a:srcRect l="0" t="4543" r="0" b="0"/>
            <a:stretch/>
          </p:blipFill>
          <p:spPr>
            <a:xfrm>
              <a:off x="500040" y="1071720"/>
              <a:ext cx="364320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00040" y="1071720"/>
              <a:ext cx="364320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rcRect l="0" t="0" r="4347" b="0"/>
          <a:stretch/>
        </p:blipFill>
        <p:spPr>
          <a:xfrm>
            <a:off x="5572080" y="4786200"/>
            <a:ext cx="3286080" cy="1857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28760" y="78588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786120" y="785880"/>
            <a:ext cx="3000600" cy="2286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858000" y="785880"/>
            <a:ext cx="2071800" cy="2214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3286080" y="5000760"/>
            <a:ext cx="2143080" cy="1571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214200" y="5000760"/>
            <a:ext cx="2857680" cy="1571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357120" y="3143160"/>
            <a:ext cx="2214720" cy="1857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554040" y="712800"/>
            <a:ext cx="8035920" cy="824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2714760" y="314316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5643720" y="3143160"/>
            <a:ext cx="3214440" cy="1606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360360" y="426960"/>
            <a:ext cx="8570880" cy="6126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3"/>
          <a:stretch/>
        </p:blipFill>
        <p:spPr>
          <a:xfrm>
            <a:off x="1646280" y="-96840"/>
            <a:ext cx="6424560" cy="9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14240" y="1000080"/>
            <a:ext cx="8072640" cy="5643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«Хоть чашечку, стаканчик, ну хоть глоток Воды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Последнее желанье, последний крик ду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«Ну, дайте нам водички! Воды! Воды! Воды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А вечером, второго, заснуть все не мог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И пить уж не хотели, и съели все цве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Вдруг разговор о смерти тихонько зав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Мальчишка им поведал историю о т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Что ангелов красивых  недавно видел о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«Летели и смеялись, со шлейфами о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И на детей похожи:  наверно – это мы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Мы полетим далеко, на небо, прямо в р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Ведь умирать не страшно, не плачь, не унывай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60360" y="0"/>
            <a:ext cx="881388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286680" y="92880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0" y="928800"/>
            <a:ext cx="3143160" cy="1785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143160" y="928800"/>
            <a:ext cx="3143520" cy="1857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4572000" y="4429080"/>
            <a:ext cx="4572000" cy="2428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0" y="2714760"/>
            <a:ext cx="3214800" cy="1714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3214800" y="2714760"/>
            <a:ext cx="3071880" cy="1714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0" y="4429080"/>
            <a:ext cx="4643280" cy="2428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6286680" y="2714760"/>
            <a:ext cx="2857320" cy="1714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500040" y="-212760"/>
            <a:ext cx="8358120" cy="1541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1"/>
          <a:stretch/>
        </p:blipFill>
        <p:spPr>
          <a:xfrm>
            <a:off x="1835280" y="1139760"/>
            <a:ext cx="5608440" cy="527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nodeType="click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nodeType="click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nodeType="click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nodeType="click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712800"/>
            <a:ext cx="26002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143240"/>
            <a:ext cx="260028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20720" y="179280"/>
            <a:ext cx="7559640" cy="6000840"/>
            <a:chOff x="720720" y="179280"/>
            <a:chExt cx="7559640" cy="600084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720720" y="179280"/>
              <a:ext cx="7559640" cy="60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20720" y="179280"/>
              <a:ext cx="7559640" cy="60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42960"/>
            <a:ext cx="7215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3320" y="4572000"/>
            <a:ext cx="8827920" cy="2286000"/>
            <a:chOff x="103320" y="4572000"/>
            <a:chExt cx="8827920" cy="22860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03320" y="4572000"/>
              <a:ext cx="88279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03320" y="4572000"/>
              <a:ext cx="882792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143680" y="221616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14200" y="2000160"/>
            <a:ext cx="4357800" cy="2714760"/>
            <a:chOff x="214200" y="2000160"/>
            <a:chExt cx="4357800" cy="271476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rcRect l="3033" t="11112" r="3033" b="12961"/>
            <a:stretch/>
          </p:blipFill>
          <p:spPr>
            <a:xfrm>
              <a:off x="214200" y="2000160"/>
              <a:ext cx="435780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14200" y="2000160"/>
              <a:ext cx="435780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713120" y="2000160"/>
            <a:ext cx="4287960" cy="2714760"/>
            <a:chOff x="4713120" y="2000160"/>
            <a:chExt cx="4287960" cy="2714760"/>
          </a:xfrm>
        </p:grpSpPr>
        <p:pic>
          <p:nvPicPr>
            <p:cNvPr id="123" name="" descr=""/>
            <p:cNvPicPr/>
            <p:nvPr/>
          </p:nvPicPr>
          <p:blipFill>
            <a:blip r:embed="rId4"/>
            <a:srcRect l="0" t="11107" r="0" b="12966"/>
            <a:stretch/>
          </p:blipFill>
          <p:spPr>
            <a:xfrm>
              <a:off x="4713120" y="2000160"/>
              <a:ext cx="428796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713120" y="2000160"/>
              <a:ext cx="428796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073160" y="-115920"/>
            <a:ext cx="735804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000760" y="-1092240"/>
            <a:ext cx="4000320" cy="7664400"/>
          </a:xfrm>
          <a:prstGeom prst="rect">
            <a:avLst/>
          </a:prstGeom>
          <a:solidFill>
            <a:srgbClr val="5ef0f7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</a:t>
            </a: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Выстрелы. Стоны. Плач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В школу пришёл Палач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Никто не думал, не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                        гадал…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Но… «Час Х» уже настал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Боевики никого не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                      щадили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Взрослых, детей они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                  захватили.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В спортзале, как в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консервной банке,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                      закрыли,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И бомбы, как игрушки,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   в углах разложили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57120" y="642960"/>
            <a:ext cx="4572000" cy="5929200"/>
            <a:chOff x="357120" y="642960"/>
            <a:chExt cx="4572000" cy="592920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rcRect l="6574" t="6420" r="9327" b="4737"/>
            <a:stretch/>
          </p:blipFill>
          <p:spPr>
            <a:xfrm>
              <a:off x="357120" y="642960"/>
              <a:ext cx="4572000" cy="5929200"/>
            </a:xfrm>
            <a:prstGeom prst="rect">
              <a:avLst/>
            </a:prstGeom>
            <a:ln w="9360">
              <a:solidFill>
                <a:srgbClr val="00b050"/>
              </a:solidFill>
              <a:miter/>
            </a:ln>
          </p:spPr>
        </p:pic>
        <p:sp>
          <p:nvSpPr>
            <p:cNvPr id="129" name=""/>
            <p:cNvSpPr/>
            <p:nvPr/>
          </p:nvSpPr>
          <p:spPr>
            <a:xfrm>
              <a:off x="357120" y="642960"/>
              <a:ext cx="4572000" cy="59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-738360" y="-68400"/>
            <a:ext cx="72183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428760" y="1643040"/>
            <a:ext cx="4429080" cy="2928960"/>
            <a:chOff x="428760" y="1643040"/>
            <a:chExt cx="4429080" cy="29289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28760" y="1643040"/>
              <a:ext cx="442908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28760" y="1643040"/>
              <a:ext cx="442908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929120" y="1643040"/>
            <a:ext cx="4071960" cy="2928960"/>
            <a:chOff x="4929120" y="1643040"/>
            <a:chExt cx="4071960" cy="2928960"/>
          </a:xfrm>
        </p:grpSpPr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4929120" y="1643040"/>
              <a:ext cx="407196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929120" y="1643040"/>
              <a:ext cx="40719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26960" y="212760"/>
            <a:ext cx="8577360" cy="1324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65040" y="4548240"/>
            <a:ext cx="864576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SimSu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14240" y="1357200"/>
            <a:ext cx="3857760" cy="3000600"/>
            <a:chOff x="714240" y="1357200"/>
            <a:chExt cx="3857760" cy="300060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714240" y="1357200"/>
              <a:ext cx="3857760" cy="30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14240" y="1357200"/>
              <a:ext cx="3857760" cy="30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643280" y="1357200"/>
            <a:ext cx="4214880" cy="3000600"/>
            <a:chOff x="4643280" y="1357200"/>
            <a:chExt cx="4214880" cy="300060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4643280" y="1357200"/>
              <a:ext cx="4214880" cy="30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643280" y="1357200"/>
              <a:ext cx="4214880" cy="30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927000" y="0"/>
            <a:ext cx="7716960" cy="1322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378000" y="4425840"/>
            <a:ext cx="8577000" cy="20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714240" y="1214280"/>
            <a:ext cx="2286000" cy="2928960"/>
            <a:chOff x="714240" y="1214280"/>
            <a:chExt cx="2286000" cy="2928960"/>
          </a:xfrm>
        </p:grpSpPr>
        <p:pic>
          <p:nvPicPr>
            <p:cNvPr id="149" name="" descr=""/>
            <p:cNvPicPr/>
            <p:nvPr/>
          </p:nvPicPr>
          <p:blipFill>
            <a:blip r:embed="rId2">
              <a:lum bright="10000"/>
            </a:blip>
            <a:stretch/>
          </p:blipFill>
          <p:spPr>
            <a:xfrm>
              <a:off x="714240" y="1214280"/>
              <a:ext cx="228600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14240" y="1214280"/>
              <a:ext cx="228600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000080" y="-122400"/>
            <a:ext cx="7358040" cy="1633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43160" y="1214280"/>
            <a:ext cx="5715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 сентября 2004 года оборвалась жизнь прекрасного человека и педагог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вана Константиновича Каниди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, ценой собственной жизни спасавшего детей в захваченной боевиками школе Бесл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Беслане в конце декабря 2009 года откроется школа-интернат со спортивным уклон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мени Ивана Каниди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, учителя физкультуры школы №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857840" y="4000680"/>
            <a:ext cx="4071960" cy="2500200"/>
            <a:chOff x="4857840" y="4000680"/>
            <a:chExt cx="4071960" cy="250020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rcRect l="0" t="11426" r="0" b="14290"/>
            <a:stretch/>
          </p:blipFill>
          <p:spPr>
            <a:xfrm>
              <a:off x="4857840" y="4000680"/>
              <a:ext cx="4071960" cy="25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857840" y="4000680"/>
              <a:ext cx="407196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00040" y="4286160"/>
            <a:ext cx="44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то ж он, такой бесчеловеч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едь даже зверь не уби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р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а всех пусть канет в плам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еч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акого не простить грех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28760" y="1143000"/>
            <a:ext cx="4500360" cy="3000240"/>
            <a:chOff x="428760" y="1143000"/>
            <a:chExt cx="4500360" cy="300024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428760" y="1143000"/>
              <a:ext cx="4500360" cy="30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28760" y="1143000"/>
              <a:ext cx="4500360" cy="30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000760" y="1143000"/>
            <a:ext cx="4000320" cy="3000240"/>
            <a:chOff x="5000760" y="1143000"/>
            <a:chExt cx="4000320" cy="3000240"/>
          </a:xfrm>
        </p:grpSpPr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5000760" y="1143000"/>
              <a:ext cx="4000320" cy="30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00760" y="1143000"/>
              <a:ext cx="4000320" cy="30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60360" y="-122400"/>
            <a:ext cx="8955000" cy="1536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28760" y="4143240"/>
            <a:ext cx="3643200" cy="2428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429080" y="44290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ока мы боль чужую чувству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ока живет в нас сострад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ока живем, мечтаем, буйству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Есть в нашей жизни оправ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12800" y="0"/>
            <a:ext cx="7974000" cy="1500120"/>
            <a:chOff x="712800" y="0"/>
            <a:chExt cx="7974000" cy="150012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712800" y="0"/>
              <a:ext cx="79740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12800" y="0"/>
              <a:ext cx="7974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65040" y="4200480"/>
            <a:ext cx="8493120" cy="2444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80960" y="0"/>
            <a:ext cx="8182080" cy="107964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500040" y="1071720"/>
            <a:ext cx="3857760" cy="2928960"/>
            <a:chOff x="500040" y="1071720"/>
            <a:chExt cx="3857760" cy="2928960"/>
          </a:xfrm>
        </p:grpSpPr>
        <p:pic>
          <p:nvPicPr>
            <p:cNvPr id="172" name="" descr=""/>
            <p:cNvPicPr/>
            <p:nvPr/>
          </p:nvPicPr>
          <p:blipFill>
            <a:blip r:embed="rId5">
              <a:lum contrast="10000"/>
            </a:blip>
            <a:stretch/>
          </p:blipFill>
          <p:spPr>
            <a:xfrm>
              <a:off x="500040" y="1071720"/>
              <a:ext cx="385776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00040" y="1071720"/>
              <a:ext cx="38577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429080" y="1071720"/>
            <a:ext cx="4253040" cy="2928960"/>
            <a:chOff x="4429080" y="1071720"/>
            <a:chExt cx="4253040" cy="2928960"/>
          </a:xfrm>
        </p:grpSpPr>
        <p:pic>
          <p:nvPicPr>
            <p:cNvPr id="175" name="" descr=""/>
            <p:cNvPicPr/>
            <p:nvPr/>
          </p:nvPicPr>
          <p:blipFill>
            <a:blip r:embed="rId6"/>
            <a:stretch/>
          </p:blipFill>
          <p:spPr>
            <a:xfrm>
              <a:off x="4429080" y="1071720"/>
              <a:ext cx="425304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429080" y="1071720"/>
              <a:ext cx="425304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05:54:52Z</dcterms:created>
  <dc:creator>Капитонов</dc:creator>
  <dc:description/>
  <dc:language>en-US</dc:language>
  <cp:lastModifiedBy>Maz</cp:lastModifiedBy>
  <dcterms:modified xsi:type="dcterms:W3CDTF">2014-08-06T18:54:40Z</dcterms:modified>
  <cp:revision>231</cp:revision>
  <dc:subject/>
  <dc:title>Слайд 1</dc:title>
</cp:coreProperties>
</file>